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B39-4F40-4654-9CFE-A86E3589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65C-D5A0-4C79-8ED4-6BF425C5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83B-2BF4-445B-938A-85DDA916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63A-EB12-44AB-AA5E-6017C79E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6540-D2EE-4858-827E-E1B66AA7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66CF-4694-48DA-9E4D-A57D8B98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9DD-B497-4739-8682-D944E194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F615-B7CC-4153-9F4C-3E28C214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2793-15F2-4969-AE7E-4DA3E152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C57E-F9D6-49B2-80FE-9FD51CB0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B16A-310F-452A-B628-D7311B19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1C3-1AA7-4D86-BD6F-A05E14A2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3FEE-C4FA-4AF7-91E8-98E5FB8A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698B-97A9-445C-BDAA-598BA750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3BB3-8EEB-4929-8F3A-F2F4801C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9216-65B2-4DF5-A7DD-BFD3B45C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60208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04160" y="76212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60208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04160" y="3827160"/>
            <a:ext cx="24778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31E6-2723-4C19-B598-3B03FA0E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300B-42A7-45B5-AF5C-483C9C3F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4B9-756C-4D16-9C46-E7065838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D5D-8F65-445D-9093-AF853AC3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610-B9F4-42D5-8035-5FA6C496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59C-0D18-481F-91EE-B7B5513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43800" y="382716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A03-69F2-481C-998C-33C3FED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43800" y="762120"/>
            <a:ext cx="37555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27160"/>
            <a:ext cx="769608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6B87-25D4-4C49-B4A7-A90EAC7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3999-2E1D-4CE4-9C90-D9847706BC52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87b7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7696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12B5-63C9-4B94-A4DF-7B590A540FE1}" type="slidenum">
              <a:rPr b="0" lang="en-US" sz="1400" spc="-1" strike="noStrike">
                <a:solidFill>
                  <a:srgbClr val="ffffff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57150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NONRENEWABLE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AND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RENEWABL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RESOURCES</a:t>
            </a:r>
            <a:endParaRPr b="0" lang="en-US" sz="60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120" y="4899240"/>
            <a:ext cx="57150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Kristen ITC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RENEWABLE RESOURCES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6858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Renewable resources are natural resources that can be replenished in a short period of ti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●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Solar   ● Geotherma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●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Wind  </a:t>
            </a:r>
            <a:r>
              <a:rPr b="1" lang="en-US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● Bioma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●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Wat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wind"/>
          <p:cNvPicPr/>
          <p:nvPr/>
        </p:nvPicPr>
        <p:blipFill>
          <a:blip r:embed="rId1"/>
          <a:stretch/>
        </p:blipFill>
        <p:spPr>
          <a:xfrm>
            <a:off x="6921360" y="685800"/>
            <a:ext cx="2167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SOLAR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24000" y="1447560"/>
            <a:ext cx="4762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the sun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from the sun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solar"/>
          <p:cNvPicPr/>
          <p:nvPr/>
        </p:nvPicPr>
        <p:blipFill>
          <a:blip r:embed="rId1"/>
          <a:stretch/>
        </p:blipFill>
        <p:spPr>
          <a:xfrm>
            <a:off x="609480" y="228600"/>
            <a:ext cx="2590920" cy="255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solar2"/>
          <p:cNvPicPr/>
          <p:nvPr/>
        </p:nvPicPr>
        <p:blipFill>
          <a:blip r:embed="rId2"/>
          <a:stretch/>
        </p:blipFill>
        <p:spPr>
          <a:xfrm>
            <a:off x="271440" y="2819520"/>
            <a:ext cx="33098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GEOTHERMAL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4572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Earth’s hea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from the heat of the Earth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geothermal2"/>
          <p:cNvPicPr/>
          <p:nvPr/>
        </p:nvPicPr>
        <p:blipFill>
          <a:blip r:embed="rId1"/>
          <a:stretch/>
        </p:blipFill>
        <p:spPr>
          <a:xfrm>
            <a:off x="4572000" y="380880"/>
            <a:ext cx="3314880" cy="4419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geothermal1"/>
          <p:cNvPicPr/>
          <p:nvPr/>
        </p:nvPicPr>
        <p:blipFill>
          <a:blip r:embed="rId2"/>
          <a:stretch/>
        </p:blipFill>
        <p:spPr>
          <a:xfrm>
            <a:off x="6019920" y="2819520"/>
            <a:ext cx="2930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WIND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0" y="380520"/>
            <a:ext cx="4114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the wind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from the wind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wind1"/>
          <p:cNvPicPr/>
          <p:nvPr/>
        </p:nvPicPr>
        <p:blipFill>
          <a:blip r:embed="rId1"/>
          <a:stretch/>
        </p:blipFill>
        <p:spPr>
          <a:xfrm>
            <a:off x="0" y="1371600"/>
            <a:ext cx="4952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BIOMASS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burning organic or living matte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from biomass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iomass2"/>
          <p:cNvPicPr/>
          <p:nvPr/>
        </p:nvPicPr>
        <p:blipFill>
          <a:blip r:embed="rId1"/>
          <a:stretch/>
        </p:blipFill>
        <p:spPr>
          <a:xfrm>
            <a:off x="4876920" y="609480"/>
            <a:ext cx="4049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WATER or  HYDROELECTRIC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24000" y="1143000"/>
            <a:ext cx="4838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 from the flow of wate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y is energy of flowing water renewabl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hydroelectric1"/>
          <p:cNvPicPr/>
          <p:nvPr/>
        </p:nvPicPr>
        <p:blipFill>
          <a:blip r:embed="rId1"/>
          <a:stretch/>
        </p:blipFill>
        <p:spPr>
          <a:xfrm>
            <a:off x="147600" y="1143000"/>
            <a:ext cx="3967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SUMMARY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952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are the differences between nonrenewable and renewable resources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question1"/>
          <p:cNvPicPr/>
          <p:nvPr/>
        </p:nvPicPr>
        <p:blipFill>
          <a:blip r:embed="rId1"/>
          <a:stretch/>
        </p:blipFill>
        <p:spPr>
          <a:xfrm>
            <a:off x="5181480" y="1066680"/>
            <a:ext cx="37720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     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HMMMM....</a:t>
            </a:r>
            <a:endParaRPr b="0" lang="en-US" sz="5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What do you think nonrenewable resources ar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Break it down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Nonrenewabl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Resourc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question"/>
          <p:cNvPicPr/>
          <p:nvPr/>
        </p:nvPicPr>
        <p:blipFill>
          <a:blip r:embed="rId1"/>
          <a:stretch/>
        </p:blipFill>
        <p:spPr>
          <a:xfrm>
            <a:off x="6019920" y="304920"/>
            <a:ext cx="2797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NONRENEWABLE RESOURCES</a:t>
            </a:r>
            <a:endParaRPr b="0" lang="en-US" sz="5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3771720"/>
            <a:ext cx="88394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A nonrenewable resource is a natural resource that cannot be re-made or re-grown at a scale comparable to its consumptio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coal"/>
          <p:cNvPicPr/>
          <p:nvPr/>
        </p:nvPicPr>
        <p:blipFill>
          <a:blip r:embed="rId1"/>
          <a:stretch/>
        </p:blipFill>
        <p:spPr>
          <a:xfrm>
            <a:off x="5105520" y="91440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nuclearpwrplant1"/>
          <p:cNvPicPr/>
          <p:nvPr/>
        </p:nvPicPr>
        <p:blipFill>
          <a:blip r:embed="rId2"/>
          <a:stretch/>
        </p:blipFill>
        <p:spPr>
          <a:xfrm>
            <a:off x="457200" y="914400"/>
            <a:ext cx="43434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Berlin Sans FB Demi"/>
              </a:rPr>
              <a:t>NUCLEAR ENERGY</a:t>
            </a:r>
            <a:endParaRPr b="0" lang="en-US" sz="54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5840" y="114264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Nuclear fission uses uranium to create energ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Nuclear energy is a nonrenewable resource because once the uranium is used, it is gon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nuclearpwrplant1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246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uclearpwrplant2"/>
          <p:cNvPicPr/>
          <p:nvPr/>
        </p:nvPicPr>
        <p:blipFill>
          <a:blip r:embed="rId2"/>
          <a:stretch/>
        </p:blipFill>
        <p:spPr>
          <a:xfrm>
            <a:off x="228600" y="3733920"/>
            <a:ext cx="37432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COAL, PETROLEUM, AND GAS</a:t>
            </a:r>
            <a:endParaRPr b="0" lang="en-US" sz="40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6172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Coal</a:t>
            </a: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,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petroleum</a:t>
            </a: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, and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Berlin Sans FB Demi"/>
              </a:rPr>
              <a:t>natural gas</a:t>
            </a: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are considered nonrenewable because they can not be replenished in a short period of time.  These are called fossil fuels.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gasoline"/>
          <p:cNvPicPr/>
          <p:nvPr/>
        </p:nvPicPr>
        <p:blipFill>
          <a:blip r:embed="rId1"/>
          <a:stretch/>
        </p:blipFill>
        <p:spPr>
          <a:xfrm>
            <a:off x="6172200" y="3581280"/>
            <a:ext cx="2771640" cy="261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natural gas"/>
          <p:cNvPicPr/>
          <p:nvPr/>
        </p:nvPicPr>
        <p:blipFill>
          <a:blip r:embed="rId2"/>
          <a:stretch/>
        </p:blipFill>
        <p:spPr>
          <a:xfrm>
            <a:off x="6172200" y="1447920"/>
            <a:ext cx="281952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erlin Sans FB Demi"/>
              </a:rPr>
              <a:t>HOW IS COAL MADE ???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pic>
        <p:nvPicPr>
          <p:cNvPr id="100" name="Picture 7" descr="coalformation1"/>
          <p:cNvPicPr/>
          <p:nvPr/>
        </p:nvPicPr>
        <p:blipFill>
          <a:blip r:embed="rId1"/>
          <a:stretch/>
        </p:blipFill>
        <p:spPr>
          <a:xfrm>
            <a:off x="152280" y="914400"/>
            <a:ext cx="88394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HOW ARE OIL AND GAS MADE ???</a:t>
            </a:r>
            <a:endParaRPr b="0" lang="en-US" sz="4000" spc="-1" strike="noStrike">
              <a:solidFill>
                <a:srgbClr val="1b87b7"/>
              </a:solidFill>
              <a:latin typeface="Impact"/>
            </a:endParaRPr>
          </a:p>
        </p:txBody>
      </p:sp>
      <p:pic>
        <p:nvPicPr>
          <p:cNvPr id="102" name="Picture 6" descr="oilgasformation"/>
          <p:cNvPicPr/>
          <p:nvPr/>
        </p:nvPicPr>
        <p:blipFill>
          <a:blip r:embed="rId1"/>
          <a:stretch/>
        </p:blipFill>
        <p:spPr>
          <a:xfrm>
            <a:off x="228600" y="838080"/>
            <a:ext cx="87631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lin Sans FB Demi"/>
              </a:rPr>
              <a:t>WHAT WAS THE DIFFERENCE BETWEEN COAL AND OIL/GAS?</a:t>
            </a:r>
            <a:endParaRPr b="0" lang="en-US" sz="4400" spc="-1" strike="noStrike">
              <a:solidFill>
                <a:srgbClr val="1b87b7"/>
              </a:solidFill>
              <a:latin typeface="Impact"/>
            </a:endParaRPr>
          </a:p>
        </p:txBody>
      </p:sp>
      <p:pic>
        <p:nvPicPr>
          <p:cNvPr id="104" name="Picture 6" descr="Coal"/>
          <p:cNvPicPr/>
          <p:nvPr/>
        </p:nvPicPr>
        <p:blipFill>
          <a:blip r:embed="rId1"/>
          <a:stretch/>
        </p:blipFill>
        <p:spPr>
          <a:xfrm>
            <a:off x="914400" y="1752480"/>
            <a:ext cx="2971800" cy="247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asoline2"/>
          <p:cNvPicPr/>
          <p:nvPr/>
        </p:nvPicPr>
        <p:blipFill>
          <a:blip r:embed="rId2"/>
          <a:stretch/>
        </p:blipFill>
        <p:spPr>
          <a:xfrm>
            <a:off x="4495680" y="1752480"/>
            <a:ext cx="2336760" cy="3505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gasoline"/>
          <p:cNvPicPr/>
          <p:nvPr/>
        </p:nvPicPr>
        <p:blipFill>
          <a:blip r:embed="rId3"/>
          <a:stretch/>
        </p:blipFill>
        <p:spPr>
          <a:xfrm>
            <a:off x="6248520" y="4114800"/>
            <a:ext cx="2590560" cy="2236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natural gas"/>
          <p:cNvPicPr/>
          <p:nvPr/>
        </p:nvPicPr>
        <p:blipFill>
          <a:blip r:embed="rId4"/>
          <a:stretch/>
        </p:blipFill>
        <p:spPr>
          <a:xfrm>
            <a:off x="576360" y="4386240"/>
            <a:ext cx="37670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HMMMM....</a:t>
            </a:r>
            <a:endParaRPr b="0" lang="en-US" sz="4800" spc="-1" strike="noStrike">
              <a:solidFill>
                <a:srgbClr val="1b87b7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23720" y="144792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If nonrenewable resources are resources that cannot be re-made at a scale comparable to its consumption, what are renewable resource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question"/>
          <p:cNvPicPr/>
          <p:nvPr/>
        </p:nvPicPr>
        <p:blipFill>
          <a:blip r:embed="rId1"/>
          <a:stretch/>
        </p:blipFill>
        <p:spPr>
          <a:xfrm>
            <a:off x="152280" y="533520"/>
            <a:ext cx="2797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57:16Z</dcterms:created>
  <dc:creator>TINA SHUTTY</dc:creator>
  <dc:description/>
  <dc:language>en-US</dc:language>
  <cp:lastModifiedBy>Tarean Anthony</cp:lastModifiedBy>
  <dcterms:modified xsi:type="dcterms:W3CDTF">2011-10-07T19:39:55Z</dcterms:modified>
  <cp:revision>18</cp:revision>
  <dc:subject/>
  <dc:title>NONRENEWABLE AND RENEWABLE RESOURCES !</dc:title>
</cp:coreProperties>
</file>